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7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LASER.WAV" ContentType="audio/x-wav"/>
  <Override PartName="/ppt/media/image14.wmf" ContentType="image/x-wmf"/>
  <Override PartName="/ppt/media/image5.jpeg" ContentType="image/jpeg"/>
  <Override PartName="/ppt/media/image9.wmf" ContentType="image/x-wmf"/>
  <Override PartName="/ppt/media/image2.png" ContentType="image/pn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1EF-F1FD-4896-8BE6-EB5EA40F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05E-A68E-4867-AA35-52CDD068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5E692-B216-4473-A6E7-8F1B055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67D46-34DB-4E1A-98EE-652850B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E1DD0-621C-4068-B013-3C52DCB9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CD31C-635A-445D-829D-AA75DDC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F1504-2E35-43DF-8780-B8DA6E8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8FE5-214A-4FF8-A373-C34B678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10C86-FE7C-4D25-9EEE-EABA0D2B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7E171-21BB-40CF-9A0F-273E6181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645C6-1C6D-42D5-967E-B7F79179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BB39-9D3F-48AC-869B-5A0CC80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206-0BE5-46FF-880C-4F53EF0A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57F6F-8B90-4158-AFB7-082C9622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F96C3-91A2-440A-8E8D-67269CF5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36EE8-06CA-40B2-81BE-067C2DF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169DD-79D4-4852-B193-45BC3B4F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4E914-071D-484D-9CE7-6295A8DD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0A8FF-4935-4713-8011-425FA26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F89FE-7CAE-40AD-82DF-4CD53A0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F19A9-E610-4433-AA64-9932042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4A6B5-7270-4FE3-8978-490C1C15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0802B-9DE1-411E-BD09-FAEA1A95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1D5-0C18-4F07-B2F9-F4D6CA1B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8581B-3B39-476D-A2C4-2150B2D3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AAEA1-219C-4881-B02E-BB25A056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27C27-6C12-4781-8980-BDEC9DB7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49F32-D084-4E72-9DC7-5C8C3536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30C7F-3802-4A6F-A23C-2B04FE7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37BED-1FE2-4ABD-99CE-40CA1CB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6A945-F63B-4869-A71E-A1E155D9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DA93D-2FDF-47E9-B0C4-F49C0B1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8D034-AC1D-4206-BFD2-60F878A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9E643-931D-464B-B1EB-617E36D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205D-80CB-43D3-A5C5-CE535A27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F3E8B-D1B6-411B-9778-D91C9C03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C834-6F13-4DF4-B18B-D81F0FC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880E7-218A-42A4-B17D-898DE416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C12E3-C567-4E46-974B-C7C18148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25B76-8DB8-4C74-87D6-FEAB117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59FEE-3C6F-4099-864D-5F4192CC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1CE66-26DD-48F4-B60E-9FFA1CE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BE0E7-4B83-48F7-8075-3E8294E0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A908D-794A-4109-AEF1-061D167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3261E-13D3-4523-A724-C96B0565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2DA9-BC5A-408D-A867-8D67C077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6670B-3B2F-4429-956B-7FBD16B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01D09-7FE9-4894-A8B3-7FCA42E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2CD8C-22CD-4097-8767-974DA521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F2D18-4962-4675-A156-DEBE25B5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5A11D-918C-4777-B35A-08F5EB0F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3745-9AA0-4148-A996-65D1E001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1504-18D0-4C59-8875-378A2778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9E7-CCCE-4AF5-8A86-F6096D6E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6E2C-A826-44B1-83A3-E56EE0E6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866-ED42-4836-B633-91742FC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79A-C92D-48AB-85AA-E99CE82D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C7A0-C012-4B9A-8576-203926E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B706-E15F-491B-9ADE-187E1CD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C9C9-82E2-4C62-9F87-A5D40D5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9C96-0295-4EA2-9D9F-6083DFAA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0464-9395-4502-8530-3E1CD69C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76080-20E9-4CDC-8CC5-95C14D9D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7515-EF09-409E-A20A-A53E46E3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99EFB-557A-4FE5-93E7-DDAFBDD5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0BDE-9E5F-40A5-BAED-8DEF2A0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0894-7891-415E-96F3-14696A04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519-5CA4-45B7-AB12-82D50B8C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A488-839E-42AF-822B-2ECBE141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CE0F-25AD-4F1D-A81E-49D09F5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0649-B933-4B56-9527-D49057A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B8F0-6835-4775-8978-B5B3753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673E-038C-4156-A19F-C46A4AC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326F-DD06-4307-BEDA-F67FFF70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E243-2590-4863-826E-6311315F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AC29-8D7B-4F2E-BEA8-92F97638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95E00-BD21-496F-B8BE-DC2E9352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34E1-BC14-4DC9-9562-4E64AE6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2D5-EACE-4999-9871-191DDDA7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3DFE-788C-424B-9F54-B22E8329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B3DD-AEFC-439D-8F40-ABD0B87A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35AC-1F96-46F6-8740-010125E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9DF0-8909-4EA4-AD6B-88A3E31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74B03-39DF-4960-9F4E-1E2BD79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5C13-EB10-424E-B59D-E6A5CD2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761D-1C82-4397-AC96-617BF8AE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3872B-D3B8-49FE-861A-08E8702E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ECDE-C15D-4F68-814F-4C923D6E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42B8-25D0-4B18-A005-CDD68EB4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49F-C776-4238-ABEC-ADB6F6D0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78C6-B3F9-493E-B647-7039239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3C36-DA07-4298-9905-41D7C4A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0AB4-FD03-4451-9242-8CF2579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37D1-2272-4042-95F3-4B99AF4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A1515-5729-4925-AED6-0F39E66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5220-6E1D-4F71-B38E-2416A76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32EC4-FEB6-4A76-9B7D-B61EE57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13B4-2E7C-4C78-B176-09CD21D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DDFC-E230-45E9-9B5F-B039D92C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8FE8-2812-422B-88B1-A4C1848F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416-926B-4F0F-9E2E-0D6FE3DF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11F0-0C77-4254-8100-EE0D729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DBCD2-4FB0-4D49-B195-6A6B4BC3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D8D7-4DB4-4B11-9910-B4A07624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9C23-B0E7-4250-B12A-D87A4243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9B82-0FB3-45D3-92A5-ACF843E8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63E5-E013-48AF-B570-4A86D9E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CAF5-B1C0-4482-8CF8-1DA109F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494C6-7D5C-4102-91F2-FE740A8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3A16-36E5-454A-8016-2B0FF6D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8DBA4-5096-4124-AF24-1F45824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F92-C494-4DE6-AEEA-022F3AA4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32151-334E-48B4-9168-90422648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4361E-2847-40EB-9A46-B0C1B986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2C7E2-D246-452F-9E65-51D524F2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4CBC-9B93-4090-8300-6F72FF7D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88B10-3FB4-4B7B-8490-551746A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1E683-FAE2-4EF5-9EE2-493F62FB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92802-5FCE-4406-8A6C-813EE364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3BEC-79BB-4F70-9E5C-CD870285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DE34-555C-4259-9ADB-8882A13A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0194C-D8FF-456D-AC00-563E9C2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6FB-3792-4098-8445-241EF4E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2E87-FBF7-4BEE-B442-FCD013B5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A475-6EE5-409F-BB23-8C93F70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D821C-5185-4935-BDFA-09008726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0E56D-5EE2-4059-BE69-5887F487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F84A-E8B2-465D-8DF5-708D2A3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2EE7-9947-4C50-B23A-EECD668B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E938-3D77-4243-8570-5CB5B42A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C5E7-F6A2-4C1F-B832-24366F0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70093-5B58-4D56-9A48-29A4C78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13673-C4F9-4D48-8CCE-4CBE566B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D89-B491-44C9-A125-6361874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B1B7-8C39-4B15-B213-31CEA0BE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4EBB0-BEA2-44BD-A1E9-B82E99B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E689-D670-4148-927A-EE0069D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A9F3-6617-49BF-9F90-DFB88624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EBC7B-10B4-481E-9DD8-2006ED3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6767E-2F30-4F4F-9929-3E2FE53D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1C69-A91D-4799-AC21-86B690C7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5D5B-C644-4B3D-BC6F-85F7622B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977F9-31D0-415F-960B-3A0D4F5D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B76BE-54CA-4E18-A6B4-52E37B27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AA7-3E40-48FC-8309-232608DCFF0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22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624720"/>
            <a:ext cx="6934320" cy="30456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601488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25" name="Minus 11"/>
          <p:cNvSpPr/>
          <p:nvPr/>
        </p:nvSpPr>
        <p:spPr>
          <a:xfrm>
            <a:off x="1447920" y="757080"/>
            <a:ext cx="8839080" cy="38124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BA7D-83FE-4AA2-806F-89C3AE6BDDE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69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72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CFB3-76B3-4BD1-9BFE-FA3875F9475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16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19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9B3-20E5-4786-BCD7-F87C02AD931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6624720"/>
            <a:ext cx="6934320" cy="30456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601488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Minus 11"/>
          <p:cNvSpPr/>
          <p:nvPr/>
        </p:nvSpPr>
        <p:spPr>
          <a:xfrm>
            <a:off x="1447920" y="757080"/>
            <a:ext cx="8839080" cy="38124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FE7-8F0F-4F52-952A-C9E71B110F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80E-0888-498B-BCEE-0FF58E34E05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77DA-9DF6-4983-B3C7-890E4494D3A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DCB3-E073-43A0-AFEA-B9D1762E13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34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6624720"/>
            <a:ext cx="6934320" cy="30456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601488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Minus 11"/>
          <p:cNvSpPr/>
          <p:nvPr/>
        </p:nvSpPr>
        <p:spPr>
          <a:xfrm>
            <a:off x="1447920" y="757080"/>
            <a:ext cx="8839080" cy="38124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695-3A98-4D80-856A-395A474A1DA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81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1A3-3C3F-48C6-814C-97ED0AA36AC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28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31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77E4-A428-4D78-A261-140E845AD1B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75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9A79-6B4F-4E44-B8BB-5AC8A61DE8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Do you eat a healthy di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1" descr=""/>
          <p:cNvPicPr/>
          <p:nvPr/>
        </p:nvPicPr>
        <p:blipFill>
          <a:blip r:embed="rId1"/>
          <a:stretch/>
        </p:blipFill>
        <p:spPr>
          <a:xfrm>
            <a:off x="2000160" y="2286000"/>
            <a:ext cx="50720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Babies_The_end_prv"/>
          <p:cNvPicPr/>
          <p:nvPr/>
        </p:nvPicPr>
        <p:blipFill>
          <a:blip r:embed="rId1"/>
          <a:stretch/>
        </p:blipFill>
        <p:spPr>
          <a:xfrm>
            <a:off x="200160" y="1000080"/>
            <a:ext cx="6657840" cy="5477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"/>
          <p:cNvSpPr/>
          <p:nvPr/>
        </p:nvSpPr>
        <p:spPr>
          <a:xfrm>
            <a:off x="3317760" y="76320"/>
            <a:ext cx="20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6366960" y="1500120"/>
            <a:ext cx="226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ubmitt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Harshit Pand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t. john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0012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Balanced 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42884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 Black"/>
              </a:rPr>
              <a:t>Food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9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"/>
          <p:cNvPicPr/>
          <p:nvPr/>
        </p:nvPicPr>
        <p:blipFill>
          <a:blip r:embed="rId2"/>
          <a:stretch/>
        </p:blipFill>
        <p:spPr>
          <a:xfrm>
            <a:off x="5929200" y="1714680"/>
            <a:ext cx="251460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11280" y="213336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all need to eat lots of different foods to keep healt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need to eat and balanced and varied di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What do you think this mea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143160" cy="16095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"/>
          <p:cNvSpPr/>
          <p:nvPr/>
        </p:nvSpPr>
        <p:spPr>
          <a:xfrm>
            <a:off x="4874040" y="142920"/>
            <a:ext cx="149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ater is essential to keep healt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It keeps us hyd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It helps us to digest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4" descr="MCj03972360000[1]"/>
          <p:cNvPicPr/>
          <p:nvPr/>
        </p:nvPicPr>
        <p:blipFill>
          <a:blip r:embed="rId1"/>
          <a:stretch/>
        </p:blipFill>
        <p:spPr>
          <a:xfrm>
            <a:off x="5651640" y="3357720"/>
            <a:ext cx="316548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Fresh fruit and vege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These contain fibre and vitam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fibre keep us h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 vitamins keep us h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5" descr="MCj04110410000[1]"/>
          <p:cNvPicPr/>
          <p:nvPr/>
        </p:nvPicPr>
        <p:blipFill>
          <a:blip r:embed="rId1"/>
          <a:stretch/>
        </p:blipFill>
        <p:spPr>
          <a:xfrm>
            <a:off x="468360" y="4797360"/>
            <a:ext cx="1428840" cy="1432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MCj04283710000[1]"/>
          <p:cNvPicPr/>
          <p:nvPr/>
        </p:nvPicPr>
        <p:blipFill>
          <a:blip r:embed="rId2"/>
          <a:stretch/>
        </p:blipFill>
        <p:spPr>
          <a:xfrm>
            <a:off x="7500960" y="2143080"/>
            <a:ext cx="952560" cy="924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MCj03255180000[1]"/>
          <p:cNvPicPr/>
          <p:nvPr/>
        </p:nvPicPr>
        <p:blipFill>
          <a:blip r:embed="rId3"/>
          <a:stretch/>
        </p:blipFill>
        <p:spPr>
          <a:xfrm>
            <a:off x="6732720" y="4357800"/>
            <a:ext cx="1817640" cy="16333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"/>
          <p:cNvPicPr/>
          <p:nvPr/>
        </p:nvPicPr>
        <p:blipFill>
          <a:blip r:embed="rId4"/>
          <a:stretch/>
        </p:blipFill>
        <p:spPr>
          <a:xfrm>
            <a:off x="2357280" y="4214880"/>
            <a:ext cx="392940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LASER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need some fats in our diet, but not 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Fats give us energy and can be stored in the body to be used when the body needs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Butter and cooking oils are f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heese and nuts are also high in f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4" descr="MCj03483110000[1]"/>
          <p:cNvPicPr/>
          <p:nvPr/>
        </p:nvPicPr>
        <p:blipFill>
          <a:blip r:embed="rId1"/>
          <a:stretch/>
        </p:blipFill>
        <p:spPr>
          <a:xfrm>
            <a:off x="7020000" y="3933720"/>
            <a:ext cx="1709640" cy="1257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LASER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0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Rice, pasta, cereals and bread contain carbohydr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arbohydrates give us lots of energy that our bodies can easily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y do you think athletes often eat lots of carbohydr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Protein helps our bodies to grow and repair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heese, fish, meat, milk and nuts contain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6" descr="MCj03831660000[1]"/>
          <p:cNvPicPr/>
          <p:nvPr/>
        </p:nvPicPr>
        <p:blipFill>
          <a:blip r:embed="rId1"/>
          <a:stretch/>
        </p:blipFill>
        <p:spPr>
          <a:xfrm>
            <a:off x="142920" y="4189320"/>
            <a:ext cx="251928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airy products like cheese, milk and yoghurt contain lots of 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need calcium to build strong and healthy bones and tee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4" descr="MCj02507670000[1]"/>
          <p:cNvPicPr/>
          <p:nvPr/>
        </p:nvPicPr>
        <p:blipFill>
          <a:blip r:embed="rId1"/>
          <a:stretch/>
        </p:blipFill>
        <p:spPr>
          <a:xfrm>
            <a:off x="357120" y="0"/>
            <a:ext cx="1143000" cy="138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6:59:17Z</dcterms:created>
  <dc:creator>-</dc:creator>
  <dc:description/>
  <dc:language>en-US</dc:language>
  <cp:lastModifiedBy>sonal.krishna</cp:lastModifiedBy>
  <dcterms:modified xsi:type="dcterms:W3CDTF">2010-12-27T16:17:28Z</dcterms:modified>
  <cp:revision>15</cp:revision>
  <dc:subject/>
  <dc:title>Eating a balanced Di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